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explode.wav" ContentType="audio/x-wav"/>
  <Override PartName="/ppt/media/image6.png" ContentType="image/png"/>
  <Override PartName="/ppt/media/drumroll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7D9E-630C-412D-8D6B-B38EDFFB31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E259C-8D0C-4812-999F-867ABE5FFF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7CF4-AF13-45D4-B4EC-F8C1AC8CD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FF3A-F00F-44FA-939F-880B3C80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CB2B-DD07-44E5-9CA4-C3BF390B8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083F-E8E9-4F29-9629-4C6C78E0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A209-9219-4EF9-A570-71CF2DC3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7B9C-2FE8-45A3-9623-B47CFBD1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D917-DE97-453C-BB93-A69B37EF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4EFE-6B25-4A7F-A8B5-7A2D6C391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316B-4258-4326-B5B6-9BF8E929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D8CA-7DB3-4002-B499-B1A9808E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525BF-0087-479C-8E8D-B56BF26D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5942-7E7C-4013-8F9E-B5FFD64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8AE09-9A41-4A48-A1FC-DCC3EEAC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A09F-6CDC-4A41-8D0C-01A48D4D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1BE2-D55D-49B1-968B-A6CCE875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9BE3-FF5E-440F-904E-E7F29AD40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9465-92A6-4461-906B-963B65678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1111-DB80-422F-8556-D2CDABC2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E998-91F7-41B9-9226-26DC332F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E737-202F-4E28-AF5A-CA393DD8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A82-37AD-4CEB-B296-5DA5126C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805-B6BC-4609-9ACE-0A1B32FE9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D767-F282-4030-8131-D8B87E1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4B75-3522-456A-B49D-A83BCA02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AE2E-45C3-48C1-98DC-80D1D2003D9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8F61-26FE-4D0F-99A4-1D75D0815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A1D6-3A5A-4C38-9283-A77559999A61}" type="datetime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C7D4-6E32-450F-958C-7FDC41B1ED3F}" type="slidenum">
              <a:rPr b="0" lang="en-GB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4"/>
          <p:cNvSpPr/>
          <p:nvPr/>
        </p:nvSpPr>
        <p:spPr>
          <a:xfrm>
            <a:off x="990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AAA0-CE4C-4D52-9C31-1E46F349594E}" type="datetime">
              <a:rPr b="0" lang="en-GB" sz="1400" spc="-1" strike="noStrike">
                <a:solidFill>
                  <a:srgbClr val="1c1c1c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A4C0-C7F4-4843-9B56-BE91B60BC4EC}" type="slidenum">
              <a:rPr b="0" lang="en-GB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's 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191120" y="29714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ow Hitler Transformed the German Econo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152280" y="5486400"/>
            <a:ext cx="2743200" cy="15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By Mr Walk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ahoma"/>
              </a:rPr>
              <a:t>http://gcsehistory.cjb.net</a:t>
            </a:r>
            <a:br>
              <a:rPr sz="1800"/>
            </a:br>
            <a:r>
              <a:rPr b="0" lang="en-GB" sz="1400" spc="-1" strike="noStrike">
                <a:solidFill>
                  <a:srgbClr val="ff0000"/>
                </a:solidFill>
                <a:latin typeface="Tahoma"/>
              </a:rPr>
              <a:t>www.SchoolHistory.co.u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10" descr="C:\My Documents\My Pictures\hitler.gif"/>
          <p:cNvPicPr/>
          <p:nvPr/>
        </p:nvPicPr>
        <p:blipFill>
          <a:blip r:embed="rId1"/>
          <a:stretch/>
        </p:blipFill>
        <p:spPr>
          <a:xfrm>
            <a:off x="4343400" y="411480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1F80-C141-4803-81BC-860F21193DBD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44D0-0057-408C-9E0E-D3651947A10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ere people better off under the Naz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nemployment fell everywhere not just in German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ome people were forced to work on public wor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here were disadvantages to SDA and KDF – workers had no repres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orkers put more into the economy than they got 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f you were “Aryan” and of no strong political beliefs life was relatively go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4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E849-1F51-40B6-B026-64CD33B3A64A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Footer Placeholder 5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3748-73D0-457D-A760-AD188502CC1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Ta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1. Research a short case study factfile on Hjalmar Schacht and Herman Go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2. Following further research answer the question, Was Nazi economic policy a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6" descr="C:\My Documents\My Pictures\swastika.gif"/>
          <p:cNvPicPr/>
          <p:nvPr/>
        </p:nvPicPr>
        <p:blipFill>
          <a:blip r:embed="rId1"/>
          <a:stretch/>
        </p:blipFill>
        <p:spPr>
          <a:xfrm>
            <a:off x="1600200" y="2362320"/>
            <a:ext cx="33894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E5EF-8291-446C-A4BA-094FBBF98978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8BCA8-EE36-403E-814E-5B99581BA8D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Hitler’s priorities on coming to pow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chacht period of economic management 1933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Understand the importance of Goering and the 4 year Plan 1936-4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valuate the success or otherwise of Nazi economic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2B0C-9ED0-4675-A723-BFA0375085E9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4642-842C-4CD5-8F09-A8D2831029A5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Unemploy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uring the election campaigns Hitler had promised to solve unemployment. This was only one of his ai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Picture 4" descr="C:\My Documents\My Pictures\brotarbeit.jpg"/>
          <p:cNvPicPr/>
          <p:nvPr/>
        </p:nvPicPr>
        <p:blipFill>
          <a:blip r:embed="rId1"/>
          <a:stretch/>
        </p:blipFill>
        <p:spPr>
          <a:xfrm>
            <a:off x="3505320" y="3124080"/>
            <a:ext cx="31892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E22-EE4F-4013-8526-F6B2E64FA696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2A45-99F3-48C8-A3B5-B13D2EF591BE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345680"/>
            <a:ext cx="7792920" cy="4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Hitler’s economic prioriti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1. Drag Germany out of the world rec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2. Solve unemployment (which he had promised to d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3. Make Germany an “autarchy” – self su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. Get rid of Jewish industrialists and give their businesses to “Aryan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4 Transform the economy to focus on rearmament and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5750-AB54-4FA2-94E5-D95DE45E673E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7BB5-640C-4AE2-963A-E6FC449EDAF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jalmar Schach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Schacht was President of the Reichsbank who directed German economic poli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believed in steady growth and a stabl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promoted trade agreements with developing countries trading manufactured goods for cheap raw materia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was against spending out too much on rearmament before the German economy was strong enoug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is New Plan of 1934 aimed to reduce imports into Germany and to strengthen the curr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He fell out with Hitler over the speed of rearmament and was replaced by Hermann Goering in 193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9478-3174-445D-AA6D-F684BD4D9D67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E92A-BA69-4818-ADA6-684597A5F20D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Hitler’s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 economy can be converted into a war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Germany must rearm quickly, conquer countries by Blitzkrieg or lightening war, takeover their economies and move 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quered countries would give the master race “Lebensraum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y exploiting conquered countries living standards could be maintained at home despite all the money being spent on w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1936 Goering was appointed to introduce a 4 year plan to put Hitler’s ideas into a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C:\My Documents\My Pictures\Naziflag.gif"/>
          <p:cNvPicPr/>
          <p:nvPr/>
        </p:nvPicPr>
        <p:blipFill>
          <a:blip r:embed="rId1"/>
          <a:stretch/>
        </p:blipFill>
        <p:spPr>
          <a:xfrm>
            <a:off x="3733920" y="50292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124F-7395-4F9E-BC79-7C32FB1B5EB7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14B-DD98-4583-A6D7-116CD5BD47D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395360"/>
            <a:ext cx="7792920" cy="36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he aims of the 4 year Pla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Speed up rearmament and make Germany ready for w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Make Germany self sufficient in raw materials “autarchy” by developing home grown substitu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251240" y="4384800"/>
            <a:ext cx="26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4708440" y="4613400"/>
            <a:ext cx="268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siana"/>
              </a:rPr>
              <a:t>In 1933 total money spent on the military was 1.9 million marks by 1939 it was 32.3 million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3" descr="C:\My Documents\My Pictures\The german hero.gif"/>
          <p:cNvPicPr/>
          <p:nvPr/>
        </p:nvPicPr>
        <p:blipFill>
          <a:blip r:embed="rId1"/>
          <a:stretch/>
        </p:blipFill>
        <p:spPr>
          <a:xfrm>
            <a:off x="1905120" y="4343400"/>
            <a:ext cx="141912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29A3-BA71-441C-9351-5CB713DB9290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569B-CB70-45AB-B100-D099A4B186E6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19160" y="928800"/>
            <a:ext cx="60958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What were the results of this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he size of the German army grew massiv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Hitler became more confident and started to openly break the Treaty of Versail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489480" y="400356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352680" y="4343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Austria 193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572000" y="425916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zechoslovakia 193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315840" y="4381560"/>
            <a:ext cx="98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oland 193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565440" y="5299200"/>
            <a:ext cx="42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ld war broke ou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10" descr="C:\My Documents\My Pictures\czech38.bmp"/>
          <p:cNvPicPr/>
          <p:nvPr/>
        </p:nvPicPr>
        <p:blipFill>
          <a:blip r:embed="rId1"/>
          <a:stretch/>
        </p:blipFill>
        <p:spPr>
          <a:xfrm>
            <a:off x="1219320" y="4419720"/>
            <a:ext cx="1981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671A-4C5F-413B-9FE2-4667D87C49CE}" type="datetime">
              <a:rPr b="0" lang="en-GB" sz="1400" spc="-1" strike="noStrike">
                <a:solidFill>
                  <a:srgbClr val="000000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Weimar and Nazi German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D521-F462-4A69-A094-407BF2123DB3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as the 4 year Plan a succes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nemployment dropped quickly 4.8 million in 1933 to 0.5 million in 193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ages rose slightly but were still lower in 1938 than they had been in 192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Working hours went up to 49 hours per week in 1939 – 52 hours in 1943 to over 60 hours per week by 194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re were fewer consumer goods (personal and household go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rade unions were replaced by “Beauty of Labour” and strength Through Joy” who organised better conditions and leisure activ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RIS</dc:creator>
  <dc:description/>
  <dc:language>en-US</dc:language>
  <cp:lastModifiedBy>Rachel</cp:lastModifiedBy>
  <dcterms:modified xsi:type="dcterms:W3CDTF">2008-09-07T12:47:24Z</dcterms:modified>
  <cp:revision>10</cp:revision>
  <dc:subject/>
  <dc:title>PowerPoint Presentation</dc:title>
</cp:coreProperties>
</file>